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ct" ContentType="image/x-pict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1B2B-E520-4621-A7A8-9348F23074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CF01-A07C-44E0-BAA8-4C358E0BD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460F-509C-4E90-B16A-D04B5B221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79D8-BB73-4BBC-B958-BD5D7DB63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2B6A-2950-405E-8CBC-C943EFB1C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4F9D-244C-4413-B37E-4D5A15B70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A94E-1301-42F0-B59C-2284F4028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8E8E-74AA-48BE-925F-707BD9D63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4D0E-BD55-41FF-B7A3-A03935D41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BA20-AD7B-4C1C-BCED-7039F745B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FD7B-0A01-4953-B839-FDD2DE13F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5A0-D486-415D-82BA-38BC2316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B4B-2834-469A-BB60-A6A66FE3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C3A-3450-42BB-BE2E-1D3F7275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BB8-E206-4C9D-A82B-E96B7B71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0BD-A14E-495B-AC4D-77866238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EE9-B826-4757-A913-F668DA7E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372-3040-47F5-BF17-62F29315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B86-2322-4D2A-9E49-A889CA11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7F7-DD95-4453-9AFD-5DF0CCF2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1D1-405F-4E53-AAD1-CFF1F484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BA3-31D1-43AC-85FA-DC72DF5B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28E-C103-443B-A09E-551193EE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59FF-D40B-46F2-8B0B-6A20BEE2FD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7AE2-FE36-4EBC-A042-11DE82A19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hotos_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I HAVE A DREA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91160" y="457200"/>
            <a:ext cx="1523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ugust 28,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066680" y="6019920"/>
            <a:ext cx="701064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: Dominique T.  Molly M.  Luisa 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undred years before Lincoln took steps for equality, but a hundred years later African Americans are still fighting for equ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64px-Abraham_Lincoln_clip_art.svg.png"/>
          <p:cNvPicPr/>
          <p:nvPr/>
        </p:nvPicPr>
        <p:blipFill>
          <a:blip r:embed="rId2"/>
          <a:stretch/>
        </p:blipFill>
        <p:spPr>
          <a:xfrm>
            <a:off x="3370320" y="3733920"/>
            <a:ext cx="2116080" cy="2476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onstitution an Declaration of Independence, the promises that all men are created equal and the 3 basic rights are empty and were not carried out.  When African Americans want their rights to be proven, they are given no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j01742191.gif"/>
          <p:cNvPicPr/>
          <p:nvPr/>
        </p:nvPicPr>
        <p:blipFill>
          <a:blip r:embed="rId2"/>
          <a:stretch/>
        </p:blipFill>
        <p:spPr>
          <a:xfrm>
            <a:off x="5059440" y="4311720"/>
            <a:ext cx="2413080" cy="229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me to take action is now.  We cannot wait to fight for equ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alarm-clock-ringing.gif"/>
          <p:cNvPicPr/>
          <p:nvPr/>
        </p:nvPicPr>
        <p:blipFill>
          <a:blip r:embed="rId2"/>
          <a:stretch/>
        </p:blipFill>
        <p:spPr>
          <a:xfrm>
            <a:off x="3048120" y="2944800"/>
            <a:ext cx="3047760" cy="2846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be truly successful in gaining equality we must be strong and also peaceful.  Hatred will not solve the hatred we are fac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Peace+Symbol.png"/>
          <p:cNvPicPr/>
          <p:nvPr/>
        </p:nvPicPr>
        <p:blipFill>
          <a:blip r:embed="rId2"/>
          <a:stretch/>
        </p:blipFill>
        <p:spPr>
          <a:xfrm>
            <a:off x="2933640" y="3048120"/>
            <a:ext cx="3162240" cy="337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ust not leave this situation without hatred.  We must finish this now with forgive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ess we are equal and have the same rights, we will not be satisfie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images.jpg"/>
          <p:cNvPicPr/>
          <p:nvPr/>
        </p:nvPicPr>
        <p:blipFill>
          <a:blip r:embed="rId2"/>
          <a:stretch/>
        </p:blipFill>
        <p:spPr>
          <a:xfrm>
            <a:off x="2743200" y="2971800"/>
            <a:ext cx="3478320" cy="3478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believes that one day everyone will be equal and no one will be judged based on the color of their sk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2636640" cy="2649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saying that even at the places with the most violent racist history freedom and equality will be present.  If America wants to be a great nation, everyone must be equ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lag_05.jpg"/>
          <p:cNvPicPr/>
          <p:nvPr/>
        </p:nvPicPr>
        <p:blipFill>
          <a:blip r:embed="rId2"/>
          <a:stretch/>
        </p:blipFill>
        <p:spPr>
          <a:xfrm>
            <a:off x="3127320" y="3809880"/>
            <a:ext cx="3044880" cy="2590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3:23:26Z</dcterms:created>
  <dc:creator>Admin</dc:creator>
  <dc:description/>
  <dc:language>en-US</dc:language>
  <cp:lastModifiedBy>tech</cp:lastModifiedBy>
  <dcterms:modified xsi:type="dcterms:W3CDTF">2010-06-03T13:33:41Z</dcterms:modified>
  <cp:revision>9</cp:revision>
  <dc:subject/>
  <dc:title>I HAVE A DREAM</dc:title>
</cp:coreProperties>
</file>